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A6F-5466-4D55-BB54-9E6E8C75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2FD-CE0C-4BA4-AD5E-881E9C23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C6254-191B-44BC-81A2-EB038F64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945FB-2B15-42B7-99FB-7D463EF5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B2454-4529-49BF-99DB-3F7DE57F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AB04A-7063-401B-8FAF-6EE281BA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9E01E-FBCC-4D64-B01F-DE250B62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12C15-1E07-49E7-ABE0-0E6A56C3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2866F-42C8-4C59-887B-B35AD49B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E32CB-27CF-4013-80C4-13CB19D1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71264-8D24-453B-8A80-EFD9260B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E721E-78F6-4C9C-94B5-6372E99C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347-B61F-4FDF-94A3-FCF6FDD5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9BA67-78B8-4949-8694-C35E8DE5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43B06-8075-4635-8C8F-882C5993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2C3F6-BDBF-40A1-9B62-2781F3FB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2DFC5-A8CD-4F99-B78B-DFA8A39D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6F0CE-4E24-4B79-8962-33206FBB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8930C-D699-42D4-919C-2E88EB9B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9CC2A-EC49-4120-AE97-F5571DB9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73290-9745-4EF5-85FD-AC57C41A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E2406-6E94-4ADA-A240-43DA80BA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80179-F993-4C90-A008-9FF85624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462-023D-4F71-A1DC-52CCD039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23BDD-CECF-4CB8-907B-CDBF8A4C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E29D5-75C9-41F4-97CE-57C5BC03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01C16-549F-463B-B1A5-03F9AAED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56137-CDD6-4593-B969-143EC34F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D6BA2-ECA3-4D28-BDC4-735EC155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50ABA-BD5C-42DB-8B88-64D78257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B4494-0719-4F8E-83E4-63FF1B47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6085B-B804-4724-9FD0-2665DF7A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81C49-B09D-4575-8FD3-B42AAC73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C2C3C-98BE-4B29-A978-0C621C31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86B4-9CD0-463F-BC39-C20A0368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A763D-B044-47CC-A23B-918D2F24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F2A47-01AA-4CC4-B018-AAD729CC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F5D8A-C062-412F-A146-EE827EE1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ECD0A-E5B7-4BAE-8AD7-A64B988D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1E7C1-48E8-4B2E-99C9-B444FEF9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BA08A-A12C-4C87-BAE6-DCE12A81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E4D0F-52E2-4F64-9CE9-601B490D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B03A8-D68C-48DD-A052-17A20737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34800-E981-49B8-9219-3605A87B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54B12-CFD9-417B-B660-C256F6DB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A967-EFBD-4095-856F-0D0868B0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2BE7F-111F-47AE-BDC9-B5D2278A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484A3-0A36-4033-B2D2-12F25A54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37D3A-2CE8-4D12-A37F-FC3ABB84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00658-076C-4630-B683-3657ED96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B8D75-148C-4F3F-8C94-69DEC914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3532-F1D2-4B76-89A6-9ADA2E85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6E28-53ED-46BE-9F23-B5247B45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F1AB-4795-44EA-B509-380AF124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299D-4687-4841-9A33-5461440E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6B7F-22CD-4404-9F0A-36FFE724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085-0200-4EC8-BAB7-0BE9EFD8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25E4-9B1A-4C36-BAAC-C117FD20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29BA-32B7-433F-9300-5BE5F424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9A10-DEC9-4ED4-8412-F0416FE4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C3AE-5B87-48D6-BFBF-2C10A14C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E673-43A3-46ED-9B3C-7E8CDB5E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C731-698F-48D8-9378-2E040A50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BB55-7E76-4063-BD53-E126F8AE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DB117-6D85-4E90-8853-E09CE24E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49B9-A586-4909-AC51-648B50F7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EBA1-E090-4419-B0DA-411757FC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C85-0057-4398-B2BF-C7E79DAE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F47F3-BD44-4EB5-B4F1-FE878288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37311-62E1-48CA-A3A9-5517A3EA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4EE0-B28D-4259-AE5F-F11E441B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0407-4F11-49E1-A733-071E5D00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BC0D-ABD5-4EF7-9CBE-5A3296B2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E0808-53A7-401C-BDDD-A68FE928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E000E-674B-463B-A80F-A5C2DD6C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C2166-ACBF-4AB4-A3B2-A7CAEF45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BB78C-516A-4295-99F9-FA4F1425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89AF8-CE59-4E6D-A129-245362B3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C35-3F4D-4BA7-90FF-BE5DB903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199D9-CDAC-4D70-A28D-A9E2CB7D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98CDA-A859-45A3-AA05-8480C5B2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019C9-093B-41BF-B83B-D37338DC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F90BA-6B0D-4426-B6DB-E65E2E44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753C5-2D81-481C-B4C0-447C3EAE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99B9A-19B5-4E1F-A8A6-46D32316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0BEB-888C-4FC4-9B71-989A675D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21D0A-C059-453B-A218-5E36034B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4CFB-0B4B-4605-8B01-EBB8589A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4A81A-A231-449A-985A-F429EB74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474-963F-41D0-A4A5-1E15174A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8BD06-A6AA-4D8D-9011-4A060E74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3D668-CF24-4518-B850-85E9D81A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245D4-E781-4949-B27A-8C245A17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4C3FB-5544-487D-BEBB-6D46DB68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B420F-04A5-480A-BD41-DD85C022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A55C-C35F-4BEF-B481-426652C6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8019A-DC6D-47F7-801B-8EF1F5E3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D5CD9-C3E5-45E6-A916-E09C87C9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EF722-9554-43EE-83A6-6D41FD0A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8FE51-8683-460C-949F-EF43D9C8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A82-2182-4A2A-848B-59D0FA7B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E8549-E5E4-4302-813C-CBE15F56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5EE8A-5945-4C02-BB8B-A2DF5F16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11E4A-984F-4C66-BA0D-DB4ECEA8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0AB82-609E-44A9-A148-CC1D17C0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3C9A2-69AB-4531-9F57-6433FA96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DC422-CF83-4954-9198-24DAF95F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7A94E-0D8A-41A5-A547-B6D4907C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4968D-89C7-434D-A3AE-AC72DDDC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7D87A-23F8-4000-8ECD-7BA545A7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5E513-9B0D-4C26-8BC4-FF7C55F5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2EB-00A1-47ED-AB79-3081DEF5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83F5F-D0A0-473E-895C-A55C5301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D308C-4458-431B-B3AE-EC700AAE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3D316-2EE2-4DCE-A732-CF5009A2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820DB-0706-499C-9CE6-5A372FEF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AA615-1B6A-4F42-A8CE-D511F19E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334F8-560E-46F5-A1A0-4C8F6EF6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176F7-735E-4265-9E16-36ADB3F5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F846E-D8E7-46E1-AB31-C3E2A63A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D5C07-FFD1-4CE6-BE9D-AB9D6327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8CCB8-0049-4A86-8AB2-AD7438FB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6F9-FE39-496D-AD09-B9709271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C2B8A-B26B-43B1-B938-39ACC277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DD660-B1D9-4ABE-BA07-3D44D50A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5D39D-6007-4C13-B9E9-547B18BA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C3386-E14B-494E-9F1B-93C08994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57755-4750-45F4-8FA9-72552AAA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7953D-C000-4149-9A94-9DA373C6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736E2-6CDC-4E4F-A311-205624B8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86E4B-A4B2-4341-A8E6-D6F7CA63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FF7CE-AC28-41CC-A521-E88F206D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78C47-4861-4480-8AD2-BAAD7A9C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122-445F-4C9A-BDFC-5336E67F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75790-909C-4D16-86E6-327A51FD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F09E6-1887-44BB-AC16-B9C66A7A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B15CB-52BA-4C52-A01F-ED86888F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94804-9E41-4B4B-B321-96A4164D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5648F-5835-445A-BEB8-B6B77CEC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B41EB-0D90-47E8-B613-D10CA2DD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D776C-3209-4A1A-97C9-CCBEB5FC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83FE2-4AC9-495D-A55B-B245CFCB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B820C-B8DA-40A9-A0A6-C2F8F859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046D3-444A-45A2-A585-3586EF05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4078-CA46-4B9B-96B5-14D012CA61C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D0B1-EF06-4F60-8F5A-8694D913A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0B87-1951-44BB-817D-31703162E34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E30B-A446-4695-AC74-F0E4B111D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EB04-B73D-47A4-8E71-E3C5958D4E1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B1B7-A277-4FBA-A565-DC3AE6572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0F20-9719-4ADA-9015-E44ED4084D3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7C09-51DC-486B-8104-4587134F4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DE8B-166E-45B0-9079-94EF356C1C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D295-DD54-4224-92E7-53FCB74F0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DDCD-F76D-440B-A3F2-DEE03DB677B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2A68-146F-4135-A73C-9ACD3C396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09FD-78C5-45DB-945C-E3A773B96A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8E99-7725-4F9A-AE0E-56212A8B3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16A-0114-412C-B5D2-0985994DF5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2004-C996-45CA-B006-1D138C6A2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0AED-E06E-4865-99C9-DF1B803B37A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F1D8-08E5-4CA9-93B5-53C7C606A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D397-3672-459A-A537-16E063459C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752E-38D9-442B-88F8-506CDE0A4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3B30-4147-4BAA-BBD4-DEE6CF8E07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2F0A-6BAB-4D97-9440-47537BAA7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9E75-B28F-4AAB-8C2E-191CE8356F6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105E-A1F5-4299-A736-56F7815C7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he effect of the divergent boundary visible in this pi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6" descr=""/>
          <p:cNvPicPr/>
          <p:nvPr/>
        </p:nvPicPr>
        <p:blipFill>
          <a:blip r:embed="rId1"/>
          <a:srcRect l="14338" t="40049" r="17468" b="39930"/>
          <a:stretch/>
        </p:blipFill>
        <p:spPr>
          <a:xfrm>
            <a:off x="419040" y="3809880"/>
            <a:ext cx="8305920" cy="213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Rift Valle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is type of plate boundary occurs when two plates move toward each other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Convergent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ype of plate boundary occurs when two plates move away from each oth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Divergent boundary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This type of plate boundary occurs when two plates slide past each other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ubduction is a result of this type of plate boundary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onvergen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dentify this type of plate boundary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rcRect l="0" t="0" r="0" b="13407"/>
          <a:stretch/>
        </p:blipFill>
        <p:spPr>
          <a:xfrm>
            <a:off x="2057400" y="2914560"/>
            <a:ext cx="6629400" cy="356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Plate collision is a result of this type of plate boundary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Convergent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Volcanoes are an effect of this type of plate boundar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nverg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A midocean ridge is an effect of this type of plate boundary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Divergent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Earthquakes, shearing, and fault lines are the effects of this type of plate boundary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A mountain range is a result of this type of plate boundary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onvergen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Divergen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rift valley is the result of this type of plate boundar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Divergent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ese are the two types of crust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Oceanic and continental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This type of crust is more dense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Oceanic crus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When two continental plates converge they cause this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A mountain range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291600" indent="-29160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When an oceanic plate subducts under a continental plate it creates this landform on the continent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Volcanoes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Identify this type of plate boundary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rcRect l="0" t="0" r="0" b="12535"/>
          <a:stretch/>
        </p:blipFill>
        <p:spPr>
          <a:xfrm>
            <a:off x="3575160" y="3365640"/>
            <a:ext cx="5568840" cy="34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 island arc and oceanic trench is formed when this type of plate subducts under an oceanic pla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Oceanic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The supercontinent that existed 250 million years ago is called this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Pangea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what we call the pieces of the earth’s crust that make up earth’s surfac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Tectonic Plate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Plates movement is caused by this in the mantle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This is what we call the places where two plates meet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Plate Boundarie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Convergent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is is the layer of the earth where convection occur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The mantl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type of plate boundary shown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2666880" y="2935440"/>
            <a:ext cx="6477120" cy="392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he two effects of the plate boundary visible in this pi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1"/>
          <a:stretch/>
        </p:blipFill>
        <p:spPr>
          <a:xfrm>
            <a:off x="3448080" y="3429000"/>
            <a:ext cx="5695920" cy="342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Volcanoes and a trench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3:56:01Z</dcterms:created>
  <dc:creator>Eleanor M. Savko</dc:creator>
  <dc:description/>
  <dc:language>en-US</dc:language>
  <cp:lastModifiedBy>Caroline Roth</cp:lastModifiedBy>
  <dcterms:modified xsi:type="dcterms:W3CDTF">2010-12-07T12:46:23Z</dcterms:modified>
  <cp:revision>44</cp:revision>
  <dc:subject/>
  <dc:title>Blank Jeopardy</dc:title>
</cp:coreProperties>
</file>